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D724-01B0-4A68-8EEA-1BE02F2E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68B-E7EC-4C9E-A63A-3F6EB0D2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7F8-4543-4890-92F3-C3CA4A57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BE8-0A15-4583-9BF1-CB8D49AC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C64-493C-4501-B05D-CB7CE96A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B31-5C81-4C34-B907-E24FF89F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BE5-3A01-4FB1-9BD4-80F05022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05A-0BC9-4C2F-8FFC-BD32114F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17C-0546-43A0-A77A-6B410A77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A08-E18C-40E0-8A41-11C0E4BB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517-B0E8-49A1-B486-B7CED7F6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635-C985-4C07-A1A6-0203EAEE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4E6B-C3EE-4D9D-8DA2-A3588718E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science.howstuffworks.com/nuclear-bomb1.htm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guide 3-5 da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66680" y="1143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diagram (in network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33530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762120" y="4267080"/>
            <a:ext cx="3047760" cy="14479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3"/>
          <p:cNvSpPr/>
          <p:nvPr/>
        </p:nvSpPr>
        <p:spPr>
          <a:xfrm>
            <a:off x="685800" y="2057400"/>
            <a:ext cx="190512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4"/>
          <p:cNvSpPr/>
          <p:nvPr/>
        </p:nvSpPr>
        <p:spPr>
          <a:xfrm>
            <a:off x="2895480" y="838080"/>
            <a:ext cx="1752840" cy="129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5"/>
          <p:cNvSpPr/>
          <p:nvPr/>
        </p:nvSpPr>
        <p:spPr>
          <a:xfrm>
            <a:off x="6705720" y="2514600"/>
            <a:ext cx="2057400" cy="1523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6"/>
          <p:cNvSpPr/>
          <p:nvPr/>
        </p:nvSpPr>
        <p:spPr>
          <a:xfrm>
            <a:off x="5943600" y="4343400"/>
            <a:ext cx="220968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5715000" y="1066680"/>
            <a:ext cx="220968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H="1" flipV="1">
            <a:off x="1828800" y="34290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9"/>
          <p:cNvSpPr/>
          <p:nvPr/>
        </p:nvSpPr>
        <p:spPr>
          <a:xfrm flipV="1">
            <a:off x="2362320" y="2133720"/>
            <a:ext cx="12189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2590920" y="2133720"/>
            <a:ext cx="342900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1"/>
          <p:cNvSpPr/>
          <p:nvPr/>
        </p:nvSpPr>
        <p:spPr>
          <a:xfrm flipV="1">
            <a:off x="3809880" y="3581280"/>
            <a:ext cx="29718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 flipV="1">
            <a:off x="3809880" y="5029200"/>
            <a:ext cx="2133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914400" y="45720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838080" y="441972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ses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914400" y="2438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124080" y="1143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6019920" y="1295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6858000" y="2895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6095880" y="457200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se-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/>
          <p:cNvSpPr/>
          <p:nvPr/>
        </p:nvSpPr>
        <p:spPr>
          <a:xfrm>
            <a:off x="2971800" y="4572000"/>
            <a:ext cx="3200400" cy="12952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04920" y="3429000"/>
            <a:ext cx="236196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457200" y="1905120"/>
            <a:ext cx="2362320" cy="1218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5"/>
          <p:cNvSpPr/>
          <p:nvPr/>
        </p:nvSpPr>
        <p:spPr>
          <a:xfrm>
            <a:off x="2971800" y="838080"/>
            <a:ext cx="23623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6"/>
          <p:cNvSpPr/>
          <p:nvPr/>
        </p:nvSpPr>
        <p:spPr>
          <a:xfrm>
            <a:off x="5867280" y="990720"/>
            <a:ext cx="2362320" cy="1218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7"/>
          <p:cNvSpPr/>
          <p:nvPr/>
        </p:nvSpPr>
        <p:spPr>
          <a:xfrm>
            <a:off x="6172200" y="3276720"/>
            <a:ext cx="2362320" cy="1218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H="1" flipV="1">
            <a:off x="2361960" y="44197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9"/>
          <p:cNvSpPr/>
          <p:nvPr/>
        </p:nvSpPr>
        <p:spPr>
          <a:xfrm flipH="1" flipV="1">
            <a:off x="2209680" y="3047760"/>
            <a:ext cx="15242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4191120" y="2057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4495680" y="2133360"/>
            <a:ext cx="18288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6172200" y="44956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276720" y="46483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ase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6858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85800" y="22096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3124080" y="11430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po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5943600" y="12952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6248520" y="3657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l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5 day 3 Nuclear change of an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838080" y="1371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resher:  Physical and Chemic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1295280" y="1752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hysical:  same material, just a change of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52388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nd molecules remain wh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295280" y="25146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hemical: new sub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1600200" y="28954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es break into atoms and rear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990720" y="3352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 change:  nuclear decomposition (breaking d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1676520" y="3733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is converted into energ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1447920" y="41148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volves changes in nuclear structure, such as fission (splitting) of a nucleus or an atom, or fusion (combining) of neutrons and protons to form heavier atoms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838080" y="1371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elting a cand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meltingcandle.jpg"/>
          <p:cNvPicPr/>
          <p:nvPr/>
        </p:nvPicPr>
        <p:blipFill>
          <a:blip r:embed="rId1"/>
          <a:stretch/>
        </p:blipFill>
        <p:spPr>
          <a:xfrm>
            <a:off x="1143000" y="2057400"/>
            <a:ext cx="876240" cy="1181160"/>
          </a:xfrm>
          <a:prstGeom prst="rect">
            <a:avLst/>
          </a:prstGeom>
          <a:ln w="0">
            <a:noFill/>
          </a:ln>
        </p:spPr>
      </p:pic>
      <p:sp>
        <p:nvSpPr>
          <p:cNvPr id="91" name="Right Arrow 5"/>
          <p:cNvSpPr/>
          <p:nvPr/>
        </p:nvSpPr>
        <p:spPr>
          <a:xfrm rot="10800000">
            <a:off x="2285640" y="251424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2286000" y="28195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bon (C) dr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191120" y="1905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4572000" y="23623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:  change was shape only  C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ight Arrow 9"/>
          <p:cNvSpPr/>
          <p:nvPr/>
        </p:nvSpPr>
        <p:spPr>
          <a:xfrm>
            <a:off x="6400800" y="2971800"/>
            <a:ext cx="304920" cy="7632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990720" y="3733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urning a cand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1" descr="candle.jpg"/>
          <p:cNvPicPr/>
          <p:nvPr/>
        </p:nvPicPr>
        <p:blipFill>
          <a:blip r:embed="rId2"/>
          <a:stretch/>
        </p:blipFill>
        <p:spPr>
          <a:xfrm>
            <a:off x="1143000" y="4648320"/>
            <a:ext cx="933480" cy="1238040"/>
          </a:xfrm>
          <a:prstGeom prst="rect">
            <a:avLst/>
          </a:prstGeom>
          <a:ln w="0">
            <a:noFill/>
          </a:ln>
        </p:spPr>
      </p:pic>
      <p:sp>
        <p:nvSpPr>
          <p:cNvPr id="98" name="Right Arrow 12"/>
          <p:cNvSpPr/>
          <p:nvPr/>
        </p:nvSpPr>
        <p:spPr>
          <a:xfrm rot="10800000">
            <a:off x="2285640" y="487656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3" descr="oxygen.jpg"/>
          <p:cNvPicPr/>
          <p:nvPr/>
        </p:nvPicPr>
        <p:blipFill>
          <a:blip r:embed="rId3"/>
          <a:stretch/>
        </p:blipFill>
        <p:spPr>
          <a:xfrm>
            <a:off x="762120" y="4191120"/>
            <a:ext cx="433440" cy="46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oxygen.jpg"/>
          <p:cNvPicPr/>
          <p:nvPr/>
        </p:nvPicPr>
        <p:blipFill>
          <a:blip r:embed="rId4"/>
          <a:stretch/>
        </p:blipFill>
        <p:spPr>
          <a:xfrm>
            <a:off x="1371600" y="4114800"/>
            <a:ext cx="433440" cy="469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oxygen.jpg"/>
          <p:cNvPicPr/>
          <p:nvPr/>
        </p:nvPicPr>
        <p:blipFill>
          <a:blip r:embed="rId5"/>
          <a:stretch/>
        </p:blipFill>
        <p:spPr>
          <a:xfrm>
            <a:off x="1981080" y="4191120"/>
            <a:ext cx="433440" cy="469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6"/>
          <p:cNvSpPr/>
          <p:nvPr/>
        </p:nvSpPr>
        <p:spPr>
          <a:xfrm>
            <a:off x="2666880" y="41911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3200400" y="4800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4267080" y="4114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4419720" y="4572000"/>
            <a:ext cx="358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: atoms rearrang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o new sub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20"/>
          <p:cNvSpPr/>
          <p:nvPr/>
        </p:nvSpPr>
        <p:spPr>
          <a:xfrm>
            <a:off x="457200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+ 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light and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ight Arrow 21"/>
          <p:cNvSpPr/>
          <p:nvPr/>
        </p:nvSpPr>
        <p:spPr>
          <a:xfrm rot="10800000">
            <a:off x="2437920" y="434304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lt and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90720" y="1371600"/>
            <a:ext cx="739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P:\ECP\ECP A\Trimester A\Note guides a\Unit 3\NaCl-poly.jpg"/>
          <p:cNvPicPr/>
          <p:nvPr/>
        </p:nvPicPr>
        <p:blipFill>
          <a:blip r:embed="rId1"/>
          <a:stretch/>
        </p:blipFill>
        <p:spPr>
          <a:xfrm>
            <a:off x="838080" y="1828800"/>
            <a:ext cx="1233720" cy="1197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P:\ECP\ECP A\Trimester A\Note guides a\Unit 3\water.jpg"/>
          <p:cNvPicPr/>
          <p:nvPr/>
        </p:nvPicPr>
        <p:blipFill>
          <a:blip r:embed="rId2"/>
          <a:stretch/>
        </p:blipFill>
        <p:spPr>
          <a:xfrm>
            <a:off x="2743200" y="1981080"/>
            <a:ext cx="822240" cy="920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914400" y="2895480"/>
            <a:ext cx="129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- +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 - -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67080" y="1600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57200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  Salt dissolves into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838080" y="3657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negar and Baking s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143000" y="4038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negar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king s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1219320" y="4419720"/>
            <a:ext cx="594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H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H    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NaH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+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CaO (CO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4267080" y="464832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: rearrange the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t L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raw on bo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27"/>
          <p:cNvSpPr/>
          <p:nvPr/>
        </p:nvSpPr>
        <p:spPr>
          <a:xfrm>
            <a:off x="106668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28"/>
          <p:cNvSpPr/>
          <p:nvPr/>
        </p:nvSpPr>
        <p:spPr>
          <a:xfrm>
            <a:off x="3962520" y="1600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29"/>
          <p:cNvSpPr/>
          <p:nvPr/>
        </p:nvSpPr>
        <p:spPr>
          <a:xfrm>
            <a:off x="4267080" y="198108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: lead still lead, just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30"/>
          <p:cNvSpPr/>
          <p:nvPr/>
        </p:nvSpPr>
        <p:spPr>
          <a:xfrm>
            <a:off x="762120" y="2819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t magnes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raw on bo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31"/>
          <p:cNvSpPr/>
          <p:nvPr/>
        </p:nvSpPr>
        <p:spPr>
          <a:xfrm>
            <a:off x="4343400" y="3276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32"/>
          <p:cNvSpPr/>
          <p:nvPr/>
        </p:nvSpPr>
        <p:spPr>
          <a:xfrm>
            <a:off x="4572000" y="3733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: atoms bond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33"/>
          <p:cNvSpPr/>
          <p:nvPr/>
        </p:nvSpPr>
        <p:spPr>
          <a:xfrm>
            <a:off x="914400" y="48006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34"/>
          <p:cNvSpPr/>
          <p:nvPr/>
        </p:nvSpPr>
        <p:spPr>
          <a:xfrm>
            <a:off x="838080" y="4267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ydrogen peroxide and Manganese Dioxid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aly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35"/>
          <p:cNvSpPr/>
          <p:nvPr/>
        </p:nvSpPr>
        <p:spPr>
          <a:xfrm>
            <a:off x="838080" y="4724280"/>
            <a:ext cx="426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M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M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H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472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502920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: atoms rearrange to form something 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u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sun.jpg"/>
          <p:cNvPicPr/>
          <p:nvPr/>
        </p:nvPicPr>
        <p:blipFill>
          <a:blip r:embed="rId1"/>
          <a:stretch/>
        </p:blipFill>
        <p:spPr>
          <a:xfrm>
            <a:off x="1676520" y="1523880"/>
            <a:ext cx="1057320" cy="10382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2971800" y="144792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oms of hydrogen come together in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nuclear fusion reaction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. Two atoms of hydrogen are combined to create helium-4 and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3200400" y="2362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3581280" y="2666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:  nucleu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685800" y="3200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clear Po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power plant.jpg"/>
          <p:cNvPicPr/>
          <p:nvPr/>
        </p:nvPicPr>
        <p:blipFill>
          <a:blip r:embed="rId3"/>
          <a:stretch/>
        </p:blipFill>
        <p:spPr>
          <a:xfrm>
            <a:off x="1295280" y="3809880"/>
            <a:ext cx="1600200" cy="10400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8"/>
          <p:cNvSpPr/>
          <p:nvPr/>
        </p:nvSpPr>
        <p:spPr>
          <a:xfrm>
            <a:off x="3276720" y="3733920"/>
            <a:ext cx="533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clear plants depend on the heat that occurs during nuclear fission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hen one atom splits into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3581280" y="4648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3809880" y="5029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: nucleu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8:26:07Z</dcterms:created>
  <dc:creator>Farwell Area Schools</dc:creator>
  <dc:description/>
  <dc:language>en-US</dc:language>
  <cp:lastModifiedBy>Farwell Area Schools</cp:lastModifiedBy>
  <dcterms:modified xsi:type="dcterms:W3CDTF">2008-10-16T19:00:00Z</dcterms:modified>
  <cp:revision>50</cp:revision>
  <dc:subject/>
  <dc:title>Note guide 8-5 day 2</dc:title>
</cp:coreProperties>
</file>